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BF5-1C3B-4250-A642-850E0645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EF9-AC30-49FE-8FBD-738EC28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870-BAF1-458E-A645-35A3BE5F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A9F-414E-4C9B-9DA3-EE17FB9A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B56-7CE5-42AE-B4DA-DDAC6EB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DC6-395A-49F4-B7DE-0D0F542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3A8-1220-4EFC-BBD8-EEE0C11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27F-4A6B-45F9-9841-85E6EFE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403-EE04-46CF-8527-7B3DE283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968-99BA-4B57-90FE-50A0F74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A99-2125-4C71-BED3-EB831DD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280-066A-42B5-A7AF-91FAF71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A160-46F6-4007-B7D6-9D70EB5A5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9140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ios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wsing to Wonder About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60640" y="2757600"/>
            <a:ext cx="3243240" cy="45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26:37Z</dcterms:created>
  <dc:creator/>
  <dc:description/>
  <dc:language>en-US</dc:language>
  <cp:lastModifiedBy/>
  <dcterms:modified xsi:type="dcterms:W3CDTF">2010-05-12T02:49:51Z</dcterms:modified>
  <cp:revision>2</cp:revision>
  <dc:subject/>
  <dc:title/>
</cp:coreProperties>
</file>